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D68-E16A-4D5D-AAED-ABB64555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59E-4C4B-4BAC-987D-0C52CA17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7EA-B7F4-4E10-916D-4349F0BC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3FD-99F3-44A1-AF4E-A02FE146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D3DD-0B53-4DC7-A75E-BDAF04A7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9332-B0A9-4104-8619-0C7FFCD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5E0B-3282-42DE-8A41-4269322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A149-2E2F-4812-B4BD-C08F9D5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3DE2-22F4-4C23-96A5-34EF06D3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4A43-B0C4-4367-81AA-78D3ADC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1F9-B577-42FC-83DA-CEC3956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E5A-F285-4C5B-818B-75CE1AD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6137-9393-40F6-8ED5-7D7B12C4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7A5C-0688-4649-BCA1-CC56E40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58A-1BC5-483F-AAF2-264CA26C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7E29-9D57-4E13-B9B4-E25B8FA0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F7E-C4E0-4B0F-9645-81D1FA60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9773-8D64-46D0-AE5D-1652C8FB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D061-6633-4138-BCF5-69E5D2C5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AF26-6D98-42BE-8AFB-14EE2852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1291-DD31-4261-92B0-321F4A5C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31C9-37C6-47CD-951A-3BA2FD9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C8B-F906-4206-9E37-A8D9675B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7B87-7A8F-4596-AA6D-66E629C1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6A60-FB72-4E72-A2EF-947B9E6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473C-4E94-49D9-BEB7-F09C8B7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DD7B-4543-4638-B7DE-391F9A2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4547-7E60-4032-AB59-0570F35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817E-8FFA-44B7-B0C3-038AD49F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2F95-8422-46C1-B170-3BCD0F24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85FE-0608-4C79-9914-DE61E64B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3C91-3A55-4929-938F-C9A9246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C1C9-E161-4199-8626-91EE7AAF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63B-9671-4911-B7B0-8D7CDA32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9EB8-3983-48EB-9B98-42F38EB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A7E5-0915-4608-ABDF-FD49D73F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9A25-7223-4EE9-9E85-E77BBCA9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1511-9C14-4153-8079-ABE6FC0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6610-AB1F-4E9D-B5FA-9EC4557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BB26-713D-4724-8765-256F680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AF14C-21EA-4D7A-B906-7C74E888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04B1-1B93-4B8D-A2A8-E630C878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A3E9-1925-462E-8C74-C022512B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DE2E-332F-496A-BF17-A5CC45EA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D00-EE5C-4CEC-B9F6-10F420C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8993-3D92-4ADE-A5EA-04AA998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5D61-B191-4D10-9421-B94C87A3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EA09B-8254-4AE7-991C-2F5FC0D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1D24-2E21-48D0-88D2-25D3D067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4A51-3561-4E13-B594-5209BC67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1F38-5242-4538-97C5-F261A2F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AE653-A906-4661-B289-62A9626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4851-F425-4826-82B5-22A13B68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D00D-5311-4B5F-AFC1-A3ADB021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4720-FB90-477C-ACDC-29D9C26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E57-2D0C-40DF-AD71-529DD2F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5967-5386-4FD4-A265-50E9DF84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3697-27EF-463C-B2BA-ED6D778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21C62-4DA5-4C87-9737-30FCF30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F612-599D-40E2-980D-CDB8212E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52BF-534C-4100-B44A-746A1329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5C5C-A4B1-4E47-A73F-A14B802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D0AA-D9C7-4BF4-88BC-2B17D230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90134-2810-4D65-B8F5-75E0B79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B6005-2E28-4670-934E-786D2AF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6FA3-AD40-476F-9E8C-70BBC7F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15B-2A9C-4252-9126-9F444690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BC24-E6C6-4C48-AA05-FBF92290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52E60-BF51-49DF-BF25-37736CF2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BD56-52E2-4F40-84D7-FC0C1F04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318F9-FD9B-457B-80A2-CCA97FEC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992A-3BD6-4024-817D-60468B6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FB5D-F754-4B6D-9FB7-1D61645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FF3C0-AC89-465C-8BF9-9835BECA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3985-2ECD-44C3-A62A-2400592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7A4C5-0037-4F23-91AB-E50BA759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0896E-F43C-4DF4-B76C-C66E953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954-4AB4-4EDD-BB65-BAFDDA0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18A83-5948-45CB-94E0-AFD1870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CB12F-AA9D-4DC9-AC0F-D0309EA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9B59-67D7-4380-B860-197AB887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2750-0291-4E75-917C-421AF271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E364-4420-4AD9-8E68-8023741A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EE593-B4EF-4AC9-A3E1-CC521A03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01B3-D9FF-44EB-952E-C2AB626B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B8FB-8247-4D9C-9769-E2CCDB56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6A2A-F12B-4C57-AD4C-BCF04F2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3BC44-C9F5-4219-AC57-DAFC6E3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A5B-A8FE-4DFC-B8E3-7990A8F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2571-EACF-4BC3-8D42-3BFA7573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649F-5277-432D-B44D-79233C6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77C6-FA60-47DD-ADCB-31F999C4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610B-969A-465C-8FC0-626D539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4439-4244-4D21-844A-4460B4CD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511F-03FC-4E62-9FC1-9A8B9BAF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C4B0-C219-452B-99AD-5A964BA7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61E-9E4C-4E7B-AB23-9EB1DC446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A99-787D-47CA-A276-9942D044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5FB4-39DF-48CB-9B46-39CECF9D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59EF-6C11-4D41-9034-FCABA132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3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909-8A8B-4DBC-BD37-5C7DDAA4B1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0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D4DA-FF59-4EFA-95D0-4B4AFD53BE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E8B-0328-445C-AE9D-588DAD90F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F93C-72AF-42ED-8C25-1B76FE1DD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欢迎您参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国家普通话水平测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819640" y="652428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核对信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仔细核对您的个人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无误，单击“确认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有误，请单击“返回”按钮重新登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再次登录后信息仍然有误，请告知考务人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4762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核对信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0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对信息后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60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24000" y="328428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用正常说话的音量朗读主屏中的个人测试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系统会自动调节，以适应您的音量，您不用作任何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45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试音结束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38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95640" y="2997360"/>
            <a:ext cx="72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76360" y="1711440"/>
            <a:ext cx="6405480" cy="4556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4619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四、  开始考试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普通话水平测试共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题目，系统会依次显示各项内容，您只需根据屏幕显示的试题内容进行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项试题前都有一段语音提示，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40431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应做到吐字清晰，语速适中，音量同试音时保持大体一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请注意主屏下方的时间提示，确保在规定的时间内完成每项考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计算机辅助普通话水平测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应 试 指 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市语言文字水平测试中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4186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定时间结束，系统会自动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某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项  读单音节字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14440" y="328680"/>
            <a:ext cx="7981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项  读多音节词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如该项试题时间有余，单击屏幕右下角的“下一题”按钮，可进入下一项试题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7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项  朗读短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7040" y="1991880"/>
            <a:ext cx="792972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项  命题说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开始时，请读出所选话题名称。如：我说的话题是“我尊敬的人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题必须说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钟（请按主屏下方的时间提示把握时间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五、结束考试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话结束后，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恭喜您考试成功，请摘下耳机，轻轻离开考场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，表示考试已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您不用进行任何操作，即可离开试场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 测 前 准 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8668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验证《准考证》信息是否有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准考证》应贴上规范的证件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加测试必须携带《身份证》和《准考证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《准考证》规定的时间准时参加测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9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考试结束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51280" y="3212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黑体"/>
                <a:ea typeface="黑体"/>
              </a:rPr>
              <a:t>特别提示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考试过程中，考生不要说试卷以外的任何内容，以免影响考试成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有疑问，请举手示意，工作人员会及时前来解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面，将所有测试界面连续演示一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769240" y="6441840"/>
            <a:ext cx="1238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测试流程简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7979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报到室→准备室→测试室→离开考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7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计算机辅助测试的几个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注  意  事  项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19640" y="609264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：我有多少时间准备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677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计算机测试同人工测试一样，会安排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分钟左右时间让考生在准备室作测前准备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为何“等待考试指令”有时时间较长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所有的考试机是连接在同一个测试平台上的，当所有考生都完成该步骤后，才能进入下一个测试环节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因此，进入测试室后，请您立即登录测试系统，不要延误时间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662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我用什么样的音量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正常说话的音量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一般两、三人之间交谈的音量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试音和考试过程音量应一致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说话声音越来越小，嘀嘀咕咕的，像说悄悄话，这样可能会影响录音效果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Arial"/>
                <a:ea typeface="楷体_GB2312"/>
              </a:rPr>
              <a:t> 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什么样的语速合适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8748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题的时间安排都比较宽裕，测试时要做到吐字清晰完整，语速从容稳当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读得太快。一读快，字与字都粘在一起，每一个字都不清晰，都不完整，都容易有缺陷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如何避免漏字、漏行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读字、读词两项容易漏字、漏行。测试时，应看清字、词，从容地朗读，即使有不认识的字，也应揣摩着读一下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尤其在换行时，可稍放慢速度，看清后再读，不要漏行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测试时，前三项如果有“漏读”现象是要按字扣分的，所以要注意避免漏读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三）应 试 注 意 事 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8200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测试时做到音量适中，吐字清晰，语速恰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说同测试无关的内容，有问题请举手示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规定程序操作计算机，不进行违规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维护考场秩序，杜绝作弊行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40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发现读错能重读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第一项和第二项如果有个别字词读错后重复读一遍，计算机系统会自动进行识别，不会因为一个字的重读而影响整体评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但不要每个字、词都重复读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考试时沉着冷静，尽量避免错读。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  <a:ea typeface="楷体_GB2312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5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缺乏对象感怎么办？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调整心态和测试状态，想象着自己是面对着朋友、同伴在说话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。</a:t>
            </a: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5191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怎样把握时间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道题目的下方都有时间滚动条，你能清晰地了解每题的用时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前三项的时间很充裕，每项读完通常都会有时间多余，可以点击右下方的“下一题”按钮，系统便会进入下一题测试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说话项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也要注意时间滚动条，因为这一项一定要说满三分钟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9</a:t>
            </a:r>
            <a:r>
              <a:rPr b="0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、说话项能背稿子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说话的</a:t>
            </a: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个题目应事先作充分准备，考试时应按题目要求讲述。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话项由测试员根据录音评判，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如有背稿子、离题、不断重复、缺时等现象，都会被扣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周围噪音会影响我的成绩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e855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会！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各个机位有一定的距离</a:t>
            </a: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为保证录音效果，测试选用的话筒能屏蔽别处的声音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专注于自己的考试，不要刻意去听别人的声音，以免影响自己的发挥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场上遇到问题怎么办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2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前应尽量解决所有操作上的疑问，测试时不要说同测试内容无关的话。如遇问题，应举手示意，由考务人员前来处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测试用计算机可以任意操作吗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时，应按规定程序操作计算机。不要随意操作计算机，不要按动同测试操作无关的其它按钮，也不要拉扯各种连接线，以防出现影响录音的情况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试后《准考证》要上交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录入准考证号并核对个人信息后，请将《准考证》置于靠走道的考试桌桌上角，以便考务人员收取（《准考证》上的照片要用来制作证书）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祝您顺利通过普通话水平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四）应  试  实  测  程  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由考务人员引导进入计算机测试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编号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就座后戴上耳机（麦克风戴在左耳），并将话筒置于口腔前方偏下位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点击“下一步”按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机测程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78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登录准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考生登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输入您的准考证号的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位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“进入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输入有误，单击“修改”按钮重新输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0880" y="457200"/>
            <a:ext cx="68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考生登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64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8:27:14Z</dcterms:created>
  <dc:creator>TingSHINN</dc:creator>
  <dc:description/>
  <dc:language>en-US</dc:language>
  <cp:lastModifiedBy>hp</cp:lastModifiedBy>
  <cp:lastPrinted>1899-12-30T00:00:00Z</cp:lastPrinted>
  <dcterms:modified xsi:type="dcterms:W3CDTF">2009-04-10T04:21:33Z</dcterms:modified>
  <cp:revision>88</cp:revision>
  <dc:subject/>
  <dc:title>PowerPoint 演示文稿</dc:title>
</cp:coreProperties>
</file>